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5543550" cy="3816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8160" y="685440"/>
            <a:ext cx="4981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B299-09CB-4625-913E-36E531341B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938160" y="685800"/>
            <a:ext cx="498168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DA8-2B5F-41FD-91E4-1C653A9FD2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38160" y="685800"/>
            <a:ext cx="498168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8152-91D5-4584-9B53-5EDE8E9C6E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38160" y="685800"/>
            <a:ext cx="498168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F790-3EE6-4D18-889B-3BD87F7A3C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686-036B-4206-96FF-BE32DBA8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7560" y="890640"/>
            <a:ext cx="498924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79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7560" y="2206800"/>
            <a:ext cx="498924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79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FDF-20D3-4584-8FAB-CB35D290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7560" y="89064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34280" y="89064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7560" y="220680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34280" y="220680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C63-512E-49A1-BEE9-D5040DDE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7560" y="890640"/>
            <a:ext cx="160632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64520" y="890640"/>
            <a:ext cx="160632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51480" y="890640"/>
            <a:ext cx="160632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7560" y="2206800"/>
            <a:ext cx="160632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64520" y="2206800"/>
            <a:ext cx="160632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51480" y="2206800"/>
            <a:ext cx="160632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42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7A5-6882-4500-9330-FC49039E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7560" y="890640"/>
            <a:ext cx="498924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3E6-8FF8-420B-BD03-A1FDE016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7560" y="890640"/>
            <a:ext cx="4989240" cy="25192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0F2-03AD-49C5-8402-E241BD7A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7560" y="890640"/>
            <a:ext cx="2434680" cy="25192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86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34280" y="890640"/>
            <a:ext cx="2434680" cy="25192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86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ECA-CDDC-445D-B3B3-7CEE30E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291-12D1-40E0-A54D-DEE493E0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7560" y="154080"/>
            <a:ext cx="498924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756-37BB-4D33-872C-1A19ACD0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7560" y="89064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34280" y="890640"/>
            <a:ext cx="2434680" cy="25192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86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7560" y="220680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DFD-63C6-47C4-8399-561F0DC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7560" y="890640"/>
            <a:ext cx="2434680" cy="25192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86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34280" y="89064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34280" y="220680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F23-74C1-4FA4-8B15-45F4D0E4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7560" y="-749520"/>
            <a:ext cx="4989240" cy="2442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7560" y="89064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34280" y="890640"/>
            <a:ext cx="243468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61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7560" y="2206800"/>
            <a:ext cx="4989240" cy="12016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79000"/>
          </a:bodyPr>
          <a:p>
            <a:pPr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54A-8E55-45FB-9210-D1F287A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7560" y="154080"/>
            <a:ext cx="4989240" cy="635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7560" y="890640"/>
            <a:ext cx="4989240" cy="251928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33000"/>
          </a:bodyPr>
          <a:p>
            <a:pPr marL="192960" indent="-192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1" marL="419040" indent="-16056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2" marL="644760" indent="-12852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3" marL="902520" indent="-1288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4" marL="1160640" indent="-128880"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5" marL="1160640" indent="-128880"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lvl="6" marL="1160640" indent="-128880">
              <a:spcBef>
                <a:spcPts val="13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7920" y="3538080"/>
            <a:ext cx="1293840" cy="2034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93600" y="3538080"/>
            <a:ext cx="1757160" cy="2034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73320" y="3538080"/>
            <a:ext cx="1293480" cy="2034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BB24-D8FA-4DBC-A796-4E8FD8C71183}" type="slidenum">
              <a:rPr b="0" lang="ja-JP" sz="2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ihagaki.net/postcard/deta.html#pdf" TargetMode="External"/><Relationship Id="rId2" Type="http://schemas.openxmlformats.org/officeDocument/2006/relationships/hyperlink" Target="http://www.iihagaki.net/postcard/deta.html#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108000" y="108000"/>
            <a:ext cx="5329080" cy="3600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240" rIns="156240" tIns="78120" bIns="78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324000" y="490680"/>
            <a:ext cx="489744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6240" rIns="156240" tIns="78120" bIns="78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558ed5"/>
                </a:solidFill>
                <a:latin typeface="メイリオ"/>
                <a:ea typeface="メイリオ"/>
              </a:rPr>
              <a:t>パワーポイント用テンプレート注意事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黒枠はポストカードサイズ（仕上位置）の幅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148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㎜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高さ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㎜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枠になり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仕上位置まで画像や背景色がある場合は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このスライド端いっぱい（幅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154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㎜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高さ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6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㎜ 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）まで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切れてはいけない情報（文字など）は青点枠より内側（仕上位置より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3mm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以上内側）に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配置してください。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標準書体以外をお使いになりますと、印刷用データに変換する際、文字化けしてしまう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場合がございます。ご注意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印刷データは片面印刷の場合は２ページ目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両面印刷の場合は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３ページ目にレイアウト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変換については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メイリオ"/>
                <a:ea typeface="メイリオ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メイリオ"/>
                <a:ea typeface="メイリオ"/>
                <a:hlinkClick r:id="rId2"/>
              </a:rPr>
              <a:t>www.iihagaki.net/postcard/deta.html#pdf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をご覧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216000" y="216000"/>
            <a:ext cx="5113080" cy="3384360"/>
          </a:xfrm>
          <a:prstGeom prst="rect">
            <a:avLst/>
          </a:prstGeom>
          <a:noFill/>
          <a:ln w="64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56240" rIns="156240" tIns="78120" bIns="78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Nishioka-25</cp:lastModifiedBy>
  <dcterms:modified xsi:type="dcterms:W3CDTF">2017-05-25T07:59:40Z</dcterms:modified>
  <cp:revision>13</cp:revision>
  <dc:subject/>
  <dc:title>PowerPoint プレゼンテーション</dc:title>
</cp:coreProperties>
</file>